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CEE3-08A9-47EE-859F-87631C2B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8F8-3844-4A6F-9276-C18EECC0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7A0-4242-437B-AA86-E1AC7983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63C3-C507-4752-AEFB-C36ED233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5A3-5C65-450F-856E-02E64867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AD8-B501-43A8-AFD0-1A1D59EB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796-EB3A-4664-8303-4EDD6DE2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3B4-B7FF-4E5A-8180-948DE265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897-8F0B-43D0-829E-53A7D788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C76-1ABA-42F8-BD8D-15D1DD53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21FC-D1C8-467A-AD77-3EC79B49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F21-0B10-4847-9536-A36A241E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9383-58D6-4005-B0FF-3ED6CB36FFD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2:57:17Z</dcterms:created>
  <dc:creator>AASM</dc:creator>
  <dc:description/>
  <dc:language>en-US</dc:language>
  <cp:lastModifiedBy>AASM</cp:lastModifiedBy>
  <dcterms:modified xsi:type="dcterms:W3CDTF">2009-03-10T12:58:33Z</dcterms:modified>
  <cp:revision>1</cp:revision>
  <dc:subject/>
  <dc:title>PowerPoint-Präsentation</dc:title>
</cp:coreProperties>
</file>