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B66-4757-4CD0-A2FB-318A83C6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BF2-3315-43EE-B8DB-537D1640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7A1-BCEB-498B-AAF4-55E8F019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0DD-013F-4A6C-864A-3BC8777F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616-4924-48ED-9052-352D24E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EED-6186-4150-9C65-71C5C5E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717-A490-47E8-AC14-A5B1556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0AC-892C-4531-935D-DD97393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BAD-9441-45F0-9BDA-37110B8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A63-18B1-4E62-8BE3-059F871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A16-05BF-4F5A-ADD9-2C58D0E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0CD-5B32-481B-8751-5FBA7F5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76E6-0D94-4B10-A4DA-E5B6172C70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7:17Z</dcterms:created>
  <dc:creator>AASM</dc:creator>
  <dc:description/>
  <dc:language>en-US</dc:language>
  <cp:lastModifiedBy>AASM</cp:lastModifiedBy>
  <dcterms:modified xsi:type="dcterms:W3CDTF">2009-03-10T12:58:33Z</dcterms:modified>
  <cp:revision>1</cp:revision>
  <dc:subject/>
  <dc:title>PowerPoint-Präsentation</dc:title>
</cp:coreProperties>
</file>