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E5C-76DB-4C04-AF44-2C1CB331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38C-2B72-4F18-A401-43E4FA83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DCF-261A-45EE-BC0D-26DA2C2B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93A-D647-4075-86B0-4D8AF96F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FD2-6ED3-4326-B442-3D0C4528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5B9-1912-477E-B375-F9906710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B13-59AD-477C-B4EB-57E674D2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265-11C0-4A7C-AD56-FE629925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CCE-760C-4295-805A-AEC04A6E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F46-B971-440A-965D-DE03B917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8AD-9D98-4D72-9AEC-682CA6DF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383-EB35-4101-8A5B-2DC8B701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EA38-D835-4B2C-819A-6CA1C8A850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7:17Z</dcterms:created>
  <dc:creator>AASM</dc:creator>
  <dc:description/>
  <dc:language>en-US</dc:language>
  <cp:lastModifiedBy>AASM</cp:lastModifiedBy>
  <dcterms:modified xsi:type="dcterms:W3CDTF">2009-03-10T12:58:33Z</dcterms:modified>
  <cp:revision>1</cp:revision>
  <dc:subject/>
  <dc:title>PowerPoint-Präsentation</dc:title>
</cp:coreProperties>
</file>